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7EC-D1EE-4D16-AA07-9D39E740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F9FB-6F19-4A5B-B279-5DC6DDBD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8CB-B06E-4252-97BA-F08C33FD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6B7-4F9A-4F5D-84E3-0D9D9439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FE4-5B0F-4969-9623-F563A836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EBA8-7B08-492C-B7FD-FF99E058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F56-121D-4F08-BE99-45B008C4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214-6C5B-4AFD-B5C5-A9A87CD7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816-E3A6-4E56-94C0-11018978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525-FC77-487A-A0A5-597BF478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9513-973F-4B45-8F42-E7233998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42A-14EC-4AB9-8391-8F2945D2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082F-B789-49A6-BC3D-ABA29A4F6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 D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6172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5486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48006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48006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41148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05920" y="41148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4290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05920" y="34290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743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2743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2057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920" y="2057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stinat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 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6858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bjectif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Émet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6858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es/Mo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és de dif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3716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13716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1:27Z</dcterms:modified>
  <cp:revision>71</cp:revision>
  <dc:subject/>
  <dc:title>Contrôle interne des risques</dc:title>
</cp:coreProperties>
</file>